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E25D-1F19-4041-BF29-ABA78DF325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67BC-D16B-461B-89BA-96618BDE23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7C56-C72B-4D62-97F0-FFC56B7B8F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5280-D1BB-4812-82C1-38C2FC70A5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0C1B-5B3F-4B2E-B82C-0C7C64676C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570A-1520-4E8B-B745-7D47FC5917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C088-FBF8-4F07-B5B9-C863F49572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2BA7-6C90-48DC-9EFA-7BE9505E9F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6C53-ABF7-4F3C-836A-16A137E54B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E21-DC9A-4536-BA61-589C285CD2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D936-6EF1-49E1-8D1C-99DF40BBEA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21F4-14C2-4AE4-A9D3-4025CB5D8D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3CDE-A5FE-466C-ACFB-D12330028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3E8D-EEA0-4EBD-8F1A-5646A1A0DD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764B-C05B-434B-88B8-6521B95732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4855-3CBC-4A1D-8D42-7E8836111F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52D2-20CB-4F29-BFC5-1F2DF5F3BF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24B6-21E7-4526-A464-C52420EE48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5CEB-3737-44A8-A0F7-4F53ECA383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A3D9-4D10-4AA7-BE53-E5F1D65E91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D2FC-5A80-400D-B084-F4004CF65B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EFD8-ECC1-4C34-9956-E352FC0F6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924A-5663-4D6B-8E1D-A634572969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019-88A5-4C6D-91D9-D49F2ADAD7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6F1-B01A-47BA-BE78-37376F2E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23F-8C44-4C6D-992E-E673AA6B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69A-989E-402A-9D1B-5A17C8C4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936-6A1C-42BB-AE96-0AEAAA8A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2512-9E0F-47EC-A71A-8ACD172F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47E5-E1E5-43D6-AD8D-CE528045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EFEB-0564-44A9-8624-6347AB06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709A-D0AC-4716-A84A-C743D42B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D898-4D63-463A-99F8-BD648424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5E1A-259C-42DA-8003-3FD8F315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C187-F625-443A-A62D-EF15BCF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5B1-EA11-4E39-82F7-F241345F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294A-A1D6-433C-8365-300687D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3D06-C4A1-4E4E-A2DB-0D56CF09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1D6E-AF34-4137-B46D-0441149D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01C8-19E2-47E3-A881-014723AD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436B-AA6A-4467-B47F-3EAF8976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ABF-DC21-4D00-9C83-780EAABF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EF8-C404-4699-8431-9CDAB8BD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A5E-2F1F-44D7-A501-35C42FEC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FBA-975C-4DD8-83CC-3EE97ABC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F15-F734-4712-BC6E-877F7D66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385-0A4E-4941-8809-6250DB1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345-30D6-436D-87F4-5DA228E7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7DBD-D2F8-4C04-8902-AC51E766288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26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1027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28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029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030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031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032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33"/>
              <p:cNvSpPr/>
              <p:nvPr/>
            </p:nvSpPr>
            <p:spPr>
              <a:xfrm>
                <a:off x="1527120" y="3090960"/>
                <a:ext cx="7564320" cy="18864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4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035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036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03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038"/>
                <p:cNvSpPr/>
                <p:nvPr/>
              </p:nvSpPr>
              <p:spPr>
                <a:xfrm>
                  <a:off x="60480" y="65160"/>
                  <a:ext cx="141264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039"/>
                <p:cNvSpPr/>
                <p:nvPr/>
              </p:nvSpPr>
              <p:spPr>
                <a:xfrm>
                  <a:off x="9360" y="331308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040"/>
                <p:cNvSpPr/>
                <p:nvPr/>
              </p:nvSpPr>
              <p:spPr>
                <a:xfrm>
                  <a:off x="9360" y="501660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2AB8-F286-421D-BF02-448353189D1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Successful 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904760" y="3559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aking the most of the 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Responding to Competency Q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ive me an example of a problem you encountered. How did you approach it.  What was the outc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R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: Describe the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: Explain the task/problem that a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What action did you 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: What was the result or outc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id you learn from this exper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6633"/>
                </a:solidFill>
                <a:latin typeface="Times New Roman"/>
              </a:rPr>
              <a:t>Matching Skills to Requirement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ploye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stomer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ercial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r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entation to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 from C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rep,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ndraising for ch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ing in Superqui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igned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siness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Your Answer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sten carefully, seek cla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llustrate answers with real examples and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e positive – constructive crit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eep answers specific and succin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ake time to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e alert to interviewer’s  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peak clearly, smile and show enthusi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now what you want to say, and find 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Qualities Employers Seek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 all-round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husiasm, commitment and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 communic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am work 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ility to solv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acity to work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itiative and self-re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lanced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996633"/>
                </a:solidFill>
                <a:latin typeface="Times New Roman"/>
              </a:rPr>
              <a:t>Copmpetencies required by X Company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ap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ive for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now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Exchang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s Difficult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Your Ques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aining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reer develop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ypes of projects &amp;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porting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erformance apprai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file of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Questions about topics raised in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happens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Interview Marking Shee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79600" y="1981080"/>
          <a:ext cx="7626240" cy="4114800"/>
        </p:xfrm>
        <a:graphic>
          <a:graphicData uri="http://schemas.openxmlformats.org/drawingml/2006/table">
            <a:tbl>
              <a:tblPr/>
              <a:tblGrid>
                <a:gridCol w="3813120"/>
                <a:gridCol w="381312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-max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on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 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evant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Manag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Mar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2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Interview Rating Scal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ating: 0-5; 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0=no response; 5=excel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lligence – Academic performance,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sponsibility – Work roles, external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ppearance &amp; poise – First im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personal relations – Interests, team-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grity – no inconsist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lf-confidence – Relaxed manner, respo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mmunication skills – Articulate, coherent, grammar, respo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ests – External interests, invol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eadership potential – Elective offices, 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viewing skills – Logical thinking, knows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What creates a bad impress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or personal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gative attitude – evasive, using exc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ck of interest and enthusi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ck of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or knowledge of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lure to give concrete examples of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 emphasis on money/rew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ck of career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After the Interview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view ow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went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went ba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you wished you had s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pare for next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itation to second / final round inter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cen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nel 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jection letter /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an request feedback -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Overview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for 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view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to expect and to 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Cen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metric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elephone 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as thoroughly as for ‘real’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comfortable, private, quiet 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se flatmates re answer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copy of CV and company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pen and paper at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for usual inter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on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cord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y  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mile and use ges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oid mono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Other Types  Of 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ot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ke one-to-one with different intervie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6-8 candi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oup observed while discussing t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e aware of group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2-5 interviewers, or as many as 13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ry to identify different 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spond to interviewer, include others through eye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y involv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Assessment Centr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pany premises or neutral 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cludes social or informal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eting with recent graduates or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tiviti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oup exerc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ctical tasks and exerc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port 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sychometric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mulates real work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Psychometric Test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e Te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skills relevant to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comprehension - evaluate logic of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reasoning - interpret statistic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rammatic reasoning - recognise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timing – complete as many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ty Ques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personality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ight or wrong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pontaneous, don’t try to second-gu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include built-in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rs may be looking for different personality 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IE" sz="4400" spc="-1" strike="noStrike">
                <a:solidFill>
                  <a:srgbClr val="996633"/>
                </a:solidFill>
                <a:latin typeface="Times New Roman"/>
              </a:rPr>
              <a:t>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terview = A meeting with an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mployer’s objective is to find the best person for the j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mployer: reviews candidate’s experience and 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Can you do the job?  (skills, abilitie, qualif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Will you do the job?  (interest, attitude &amp; mo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How will you fit into the organisation? (person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ou: impress employer and assess position on 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What does this position offer 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How does it fit with my career pl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ngratulations - you have passed the first hur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ou must prove that you are the most suitable candidate for this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600" spc="-1" strike="noStrike">
                <a:solidFill>
                  <a:srgbClr val="996633"/>
                </a:solidFill>
                <a:latin typeface="Arial"/>
              </a:rPr>
              <a:t>Preparation is the key to succes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view own skills, experiences and 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eck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ticipate questions and identify relevant ex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pare key selling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search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bsites, reports, articles, company literature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ntacts with knowledge of organisation o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levant articles in the 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ersonal visit or telephone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search job and occupationa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ob description – or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urren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epare your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Watch the Body Languag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irst impressions very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Halo effect or Devil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ow time to rel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ress appropriat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ntrance, introductions &amp; 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mile and make ey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e aware of own m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atch body language of inter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Typical Ques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bout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Tell me about yourself  -  Bring me up to date with your C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y did you choose that particular degree program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experience have you had that is relevant to this p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would you consider your major achievements to d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bout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interests you about this jo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do you know about this organis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other options are you consider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How do you see your career developing – 5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If you were Head of Department, what would be your priorit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l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do you think of the Government’s policy on college fe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’s your opinion of the Ryanair bid for Aer Lingu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Other Type of Ques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f”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experience - how are you likely to respond to a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exactly did you deal with the sit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id you know it wor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id you feel about the outc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you have handled it differen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Arial"/>
              </a:rPr>
              <a:t>Competency-based 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y identifies key skills required for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s questions to elicit evidence of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hasis on past behaviour as predictor of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work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escribe a team project you  worked on.  What problems arose? How did you deal with the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 Skill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escribe situation when you had to persuade others to support your view.  Give an example of any reports you’ve written which illustrate your writing 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hat kinds of people do you find it difficult to work with?  How do you handle those situ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Responsibility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escribe a time when you took responsibility to achieve a challenging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-solv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ell about a time when you had several tasks to manage at one time with conflicting dead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996633"/>
                </a:solidFill>
                <a:latin typeface="Times New Roman"/>
              </a:rPr>
              <a:t>Preparing for Competency Interview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competencies required for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view job description or ask fo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e each competency in behaviour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past experience to illustrate how you demonstrated that behavi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pare examples for each compe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actice talking about your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give a complete answer -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47:14Z</dcterms:created>
  <dc:creator/>
  <dc:description/>
  <dc:language>en-US</dc:language>
  <cp:lastModifiedBy>Bright</cp:lastModifiedBy>
  <dcterms:modified xsi:type="dcterms:W3CDTF">2013-08-22T13:50:06Z</dcterms:modified>
  <cp:revision>29</cp:revision>
  <dc:subject/>
  <dc:title>Successful Interviews</dc:title>
</cp:coreProperties>
</file>